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79660"/>
        <c:axId val="74969435"/>
      </c:barChart>
      <c:catAx>
        <c:axId val="540796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69435"/>
        <c:crosses val="autoZero"/>
        <c:auto val="1"/>
        <c:lblAlgn val="ctr"/>
        <c:lblOffset val="100"/>
        <c:noMultiLvlLbl val="0"/>
      </c:catAx>
      <c:valAx>
        <c:axId val="74969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796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8D1-49ED-4974-8911-D00C2196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555-77D2-4FAB-9B62-C61AD26D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2B4-A443-4C78-88CD-C1A5DE07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745-5CA3-4F70-AE30-9BC5BB86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EABF-2AE6-4009-8891-0EDEBB6E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825-884F-47AB-83E4-56A37B6C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41B-676D-4710-A0C9-578E88F6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363-93EC-4535-8114-994A615D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17E0-1BFF-4E84-A852-B78AD1EE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DA5E-67D7-4240-AF32-C317F126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13D-79C5-40BE-8FD4-E6092A9E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4EB-BF89-4875-B592-61D0B1B0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A911B-6FAA-4A75-BBB6-385529B8C7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