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50253"/>
        <c:axId val="18768291"/>
      </c:barChart>
      <c:catAx>
        <c:axId val="57250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68291"/>
        <c:crosses val="autoZero"/>
        <c:auto val="1"/>
        <c:lblAlgn val="ctr"/>
        <c:lblOffset val="100"/>
        <c:noMultiLvlLbl val="0"/>
      </c:catAx>
      <c:valAx>
        <c:axId val="187682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50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C09-B44C-43A8-9743-32B3EDD0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221-E643-4A7E-A480-8A57ACC8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A0F-7943-412B-B82C-ECBA4234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065-5400-4487-8F98-0B19E1FE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321-7034-4AA3-BD3E-E365BBF5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027-91E5-475F-B926-407244A8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824-ED2A-4B9E-AAD3-A06816ED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12A-318F-4E5D-BC35-A293ED42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660-D98B-4B3E-A295-BD1D7013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504-F3F1-4009-90B5-AF76F41A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0A2-2850-4C3B-9DE8-D465EA21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CBFD-652F-4412-AF63-35DF2D1C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3C192-EA35-4825-A86F-CA85C7EE26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