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019485"/>
        <c:axId val="58172987"/>
      </c:barChart>
      <c:catAx>
        <c:axId val="740194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172987"/>
        <c:crosses val="autoZero"/>
        <c:auto val="1"/>
        <c:lblAlgn val="ctr"/>
        <c:lblOffset val="100"/>
        <c:noMultiLvlLbl val="0"/>
      </c:catAx>
      <c:valAx>
        <c:axId val="581729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0194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079A-9639-4D48-AA9F-30296EDE6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6665-23CA-4816-A356-DCCE4F9F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031D-11B6-4CA7-B661-F58188E74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C3B7-911D-45C9-880A-A7610920D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71D1-32AF-4686-9CFB-3B6C2CAA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2D37-3E81-43D8-B7FB-9A51A3DA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6B34-0730-4794-826C-95AC8597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EF4F-6788-45B6-B50B-8B24E8A7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B513-D62C-4BFE-8CD5-007B9DEB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1C23-3C42-42A9-BF46-004C8409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6E36-F1EF-4304-80FA-4354584E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AFB1-F136-4F4D-B8C4-75847E56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6BFF41-74F3-4C76-866A-FB1DBE42BC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