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96379"/>
        <c:axId val="71206861"/>
      </c:barChart>
      <c:catAx>
        <c:axId val="72996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06861"/>
        <c:crosses val="autoZero"/>
        <c:auto val="1"/>
        <c:lblAlgn val="ctr"/>
        <c:lblOffset val="100"/>
        <c:noMultiLvlLbl val="0"/>
      </c:catAx>
      <c:valAx>
        <c:axId val="71206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96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344-7E3E-4B6D-BC9B-30C67F99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02C-0A93-435A-8494-E2FDB71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F32-CC94-4840-81E2-72930145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A3D-1727-4886-9739-A23AC3B6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D4D-E618-4A38-ABC0-17211001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B96-26D6-4483-B308-5EF98A12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457-EFE4-4FB0-970E-A95F295F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DB2-DEFA-45C0-86C7-4E291167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C54-7C00-4064-8C01-29EE70F7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2B9-6150-4723-82C2-CF371EA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D13-CD5F-414F-A1C4-5A00250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659-0D77-4DE0-BD35-167B2F00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C0A97-02E3-4A45-B75A-966E609DDD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