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464885"/>
        <c:axId val="20410307"/>
      </c:barChart>
      <c:catAx>
        <c:axId val="86464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10307"/>
        <c:crosses val="autoZero"/>
        <c:auto val="1"/>
        <c:lblAlgn val="ctr"/>
        <c:lblOffset val="100"/>
        <c:noMultiLvlLbl val="0"/>
      </c:catAx>
      <c:valAx>
        <c:axId val="20410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64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941-29A2-4D80-9246-D0C4BE3C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3B8-DD7C-45F6-8B22-E6F9CDE4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40E-6329-4EE7-B992-8441FBC7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347-DAE2-486E-A912-1AEA108F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545-F58A-4B82-8D20-2103BE51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044-6894-472D-8B2F-2CEB739E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5BE-368C-4837-9092-147F4816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1F6-6C9C-487D-B802-4E7F1AAC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205-030C-4289-A4F9-49714FA7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CF8-271E-4E71-8581-EB8296C8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BFD-89D0-4C7D-9F6A-08CB92E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487-B724-43AD-954A-367AA739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1A845-581D-4F6A-AA3D-3D88CF01FE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