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67701"/>
        <c:axId val="61267474"/>
      </c:barChart>
      <c:catAx>
        <c:axId val="66867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67474"/>
        <c:crosses val="autoZero"/>
        <c:auto val="1"/>
        <c:lblAlgn val="ctr"/>
        <c:lblOffset val="100"/>
        <c:noMultiLvlLbl val="0"/>
      </c:catAx>
      <c:valAx>
        <c:axId val="61267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67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1A1-3A13-43A2-8909-04E13366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3AE3-4B23-4BA3-B037-A0F093DF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332-1A3B-43C2-A0AD-B5310A51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6F0-B011-47FD-B16E-BAEBD385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F81-819F-4C59-B4D4-87439456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D34-BCEB-40AC-BDE6-1AC00861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9A0-9E22-4970-BA14-947CBD67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239-60F6-4612-AFDC-A1252261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487-5975-422B-AD3E-B27F3F85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F22-82EC-4C8D-B504-35410F90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3AE-F2F4-47E1-AFF6-2B1DAC49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37E-A4F2-4771-ACFF-AF8BDE31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16ADA-F732-4D65-85C8-9200056CCE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