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87043"/>
        <c:axId val="4978544"/>
      </c:barChart>
      <c:catAx>
        <c:axId val="59987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8544"/>
        <c:crosses val="autoZero"/>
        <c:auto val="1"/>
        <c:lblAlgn val="ctr"/>
        <c:lblOffset val="100"/>
        <c:noMultiLvlLbl val="0"/>
      </c:catAx>
      <c:valAx>
        <c:axId val="4978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87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7F3-6575-47F9-B382-B4D60A70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598-7679-4439-8DAC-D8854689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167C-F353-4915-BD6B-1023A3B7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66A-066A-43C8-B136-80C4EC47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D2E-4A7E-4D05-9E80-CCD345C5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4E3-A65A-420E-B240-907F5EA2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578-78AE-410D-A760-81C0A559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732-FC86-4976-A1A8-7957DDB1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01C-94E8-4EC3-94A3-AE507605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1F1-D20F-4A59-88D1-BB01B5E5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B9F-B3BC-4883-983F-DEAABE43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65B-2E84-42BA-B788-687C66C4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D78F3-0A16-48A2-8A81-C7088A379A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