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40583"/>
        <c:axId val="22233775"/>
      </c:barChart>
      <c:catAx>
        <c:axId val="84940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33775"/>
        <c:crosses val="autoZero"/>
        <c:auto val="1"/>
        <c:lblAlgn val="ctr"/>
        <c:lblOffset val="100"/>
        <c:noMultiLvlLbl val="0"/>
      </c:catAx>
      <c:valAx>
        <c:axId val="22233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40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25F-19D5-4328-8E00-AE84E63E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60E-F401-4852-8B6B-3E56D3F6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F6D-D088-41DE-85D1-305430DC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231-3715-48DD-9812-22B421E9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455-52AB-4BE3-B945-73EEFEAF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BEF-13EF-4B1F-8226-F45FB0B5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1D4-7671-4487-AC8E-C3856AA4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D3A-1A80-404D-B723-2004C2A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4EE-3997-463A-B122-7B6FFD0C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9DE-FB14-4892-AD9D-5DA407D2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B6B-2A6B-41B7-A833-04F0DB7B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E84-F02E-41D9-A75F-A4E79A22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F9CFE-78DA-451D-8F71-798EC9B872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