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71561"/>
        <c:axId val="70282165"/>
      </c:barChart>
      <c:catAx>
        <c:axId val="23471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82165"/>
        <c:crosses val="autoZero"/>
        <c:auto val="1"/>
        <c:lblAlgn val="ctr"/>
        <c:lblOffset val="100"/>
        <c:noMultiLvlLbl val="0"/>
      </c:catAx>
      <c:valAx>
        <c:axId val="70282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71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258-D5C9-470E-802D-6B7A6DA9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EC7-3D36-4F3E-8687-A862EE00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A58-2E23-40BF-A4EB-FCDA86B4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68A-E0C4-47AA-8A93-8297BDB4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BD8-7174-4D40-8AA2-D483BFF8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2B8-6729-4912-A73B-B186D7D0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83A-D455-46F5-8CB6-BE25D230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EA4-B9DF-4EA1-9752-370265F7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8E0-03AD-4ADB-9CBF-2DBB273B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C27-554B-44E1-92A3-7CC18C6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232-4F05-424C-BC42-7EF88E6C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354-999D-4C81-8456-7A17510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05C16-D552-4B52-8BCC-7E1C70B7AE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