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39137"/>
        <c:axId val="77512883"/>
      </c:barChart>
      <c:catAx>
        <c:axId val="82939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12883"/>
        <c:crosses val="autoZero"/>
        <c:auto val="1"/>
        <c:lblAlgn val="ctr"/>
        <c:lblOffset val="100"/>
        <c:noMultiLvlLbl val="0"/>
      </c:catAx>
      <c:valAx>
        <c:axId val="77512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39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0E1D-59E6-4AEA-BEF7-56481F54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EAC-B6C9-4410-9BD3-CD56374F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354A-9BCF-44BE-AC99-50994FD7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3B4-77BF-42AA-BEE4-FDC5D868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3BE-7D72-40D7-8481-0C005964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519D-70D3-4EAF-87B4-7C5D73A7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DF7D-96CB-4EE2-9FF2-AF80C13F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D34-32DF-4BAF-A492-846DE7CD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D9D-CD2E-4111-A117-7185F36C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82E-38ED-4F42-9FDB-8519DD35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C8A-8F51-4ED7-9302-447FA0AE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479-3910-4B5C-98C4-AAADB6A2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9B0EC-2EAE-48B1-97E8-EB9BAB50B4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