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24054"/>
        <c:axId val="74074413"/>
      </c:barChart>
      <c:catAx>
        <c:axId val="15240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074413"/>
        <c:crosses val="autoZero"/>
        <c:auto val="1"/>
        <c:lblAlgn val="ctr"/>
        <c:lblOffset val="100"/>
        <c:noMultiLvlLbl val="0"/>
      </c:catAx>
      <c:valAx>
        <c:axId val="740744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240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BBFC-6C9D-42A2-AB02-42F92EB22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8936-42CC-48E6-B808-3392ED5D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F87B-2DC7-4F88-B8A2-28EC025D5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C8A9-0D53-4A66-92F5-29C98BCD9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B0BC-DFE2-4413-9625-7E29CA37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FCF0-DA17-4CAC-A64F-0BEFCEEA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E80B-32C3-4291-84ED-E48114B1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8B45-348A-476D-A813-B2F61276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F490-1E02-4F9C-A819-1CE18947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A709-12DF-4A4D-93E6-C38575BE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DE18-9654-431D-A1E1-2F730C5C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7F34-1896-4BAD-AC55-B1521B3E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AEEB2-9789-4987-95B8-1B11A822BC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