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10336"/>
        <c:axId val="50069005"/>
      </c:barChart>
      <c:catAx>
        <c:axId val="49010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9005"/>
        <c:crosses val="autoZero"/>
        <c:auto val="1"/>
        <c:lblAlgn val="ctr"/>
        <c:lblOffset val="100"/>
        <c:noMultiLvlLbl val="0"/>
      </c:catAx>
      <c:valAx>
        <c:axId val="50069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0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C14-2FB7-491E-B0D8-79CCFD22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A38-DB4E-4E82-BE20-223464BB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736-5704-435A-8B75-30189124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0BC-91E0-4155-A5DD-2863C758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A27-21D9-44E8-8B24-D704CB3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81B-C223-4598-BCF0-5E7FD449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D02-948B-4051-BF85-BA02A4D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5C9-D9A1-4FB0-8634-5236FDB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9D7-88EE-4324-A716-FE9C58CD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EAB-4E72-4A3B-94A0-15D11F4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90C-135F-4C36-ABCA-3F1DCA9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153-F57B-4DF7-BAAB-A535CB2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97537-A0F8-44D2-B207-193221017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