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42925"/>
        <c:axId val="80997804"/>
      </c:barChart>
      <c:catAx>
        <c:axId val="98642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97804"/>
        <c:crosses val="autoZero"/>
        <c:auto val="1"/>
        <c:lblAlgn val="ctr"/>
        <c:lblOffset val="100"/>
        <c:noMultiLvlLbl val="0"/>
      </c:catAx>
      <c:valAx>
        <c:axId val="80997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42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490-C8C3-4A8E-B0E4-25351AF2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B5D-80B3-4B3C-8A16-80145E36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250-3FC6-48C1-A676-8FA197B9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073-6DE4-41F9-B663-2A0A98DC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D95-65FD-4453-B8F2-065DDC14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28E-7DFA-42E4-B7B3-BBB0B245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352-6B8D-4F0B-AA55-5F154547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EFE-D1C7-4AC9-B4F8-5D086895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2C9-33A8-42A6-9B64-D9C6102D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7FA-F7D9-42A1-95AC-5F6DCBD0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03B-675D-4A1F-B2AC-49F9DB88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7FA-03C7-47BE-A4BB-90EE1F54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40B03-E0AE-4F8D-8590-A6B889C412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