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3658"/>
        <c:axId val="60402842"/>
      </c:barChart>
      <c:catAx>
        <c:axId val="9243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02842"/>
        <c:crosses val="autoZero"/>
        <c:auto val="1"/>
        <c:lblAlgn val="ctr"/>
        <c:lblOffset val="100"/>
        <c:noMultiLvlLbl val="0"/>
      </c:catAx>
      <c:valAx>
        <c:axId val="60402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3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248-8525-4265-9C85-DA889317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735-C780-4C6A-BC72-D6EB91B6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732-68CF-4167-B548-BEFA6D11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6FF-55D0-4FFC-9F73-2EF0A4C6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F62-1984-4461-B00E-E3446856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7E9-A238-40CD-9E48-5E88D718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C41-11CF-401E-ABAB-C1CC621A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4F5-AD63-4431-86C5-85224A81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BF7-5B66-495D-9D7B-6059DA24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3BC-0A44-4FB0-83A2-5B1CE07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2E5-B13E-406A-B497-C9EB9F0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742-3CF6-4BDB-9781-7F756D9A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0E0CA-0D34-43C4-AF6B-A176672BDE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