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77428"/>
        <c:axId val="79864637"/>
      </c:barChart>
      <c:catAx>
        <c:axId val="36377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64637"/>
        <c:crosses val="autoZero"/>
        <c:auto val="1"/>
        <c:lblAlgn val="ctr"/>
        <c:lblOffset val="100"/>
        <c:noMultiLvlLbl val="0"/>
      </c:catAx>
      <c:valAx>
        <c:axId val="79864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77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2DF-664D-4861-A876-14DDB706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BFD-1A37-4476-A7E9-BE634403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27B-5A8E-4D86-92C8-7A05EBAA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4B3-8133-4C69-B378-93C8E7FD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D07-BCA9-407E-9A92-9408949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E38-0BFC-443A-94BC-D66B579D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C83-FE7B-4B05-9875-E8F25251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D43-E888-49D6-B803-2676755C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5EA-9466-416A-91BA-7D1F4803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F31-436C-4596-B223-A980C784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8EE-A01D-4FA4-A629-6149A05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38D-7882-41D4-A6C2-F94898A1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1E2F3-CFEB-4C4E-BFF9-59766F4A9D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