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92688"/>
        <c:axId val="77371598"/>
      </c:barChart>
      <c:catAx>
        <c:axId val="91092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71598"/>
        <c:crosses val="autoZero"/>
        <c:auto val="1"/>
        <c:lblAlgn val="ctr"/>
        <c:lblOffset val="100"/>
        <c:noMultiLvlLbl val="0"/>
      </c:catAx>
      <c:valAx>
        <c:axId val="77371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92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414-53CD-4573-AF2F-DE0CC7D5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219-A95C-4C4B-82B0-6CB56C9E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6BD-F247-4DF4-A0BA-DE4C9641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2B4-5DBF-4D60-ACCB-1FC23CB0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10A-ED8E-4529-BA30-452C91BD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72B-7E8B-43B5-9DB9-67B24E25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FE2-47DE-42FE-8C8F-35958110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824-0341-4DC4-96E8-0FA92C5A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65C-5522-425D-B3AE-A796E85F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5C6-D036-4B6C-B874-9D23E7A3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7DB-790E-4186-82D2-329E473F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9C4-DFDA-49A3-AD9E-93AF3074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7C499-5C85-4A83-8F0B-EB3AD14A36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