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90781"/>
        <c:axId val="95676508"/>
      </c:barChart>
      <c:catAx>
        <c:axId val="380907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76508"/>
        <c:crosses val="autoZero"/>
        <c:auto val="1"/>
        <c:lblAlgn val="ctr"/>
        <c:lblOffset val="100"/>
        <c:noMultiLvlLbl val="0"/>
      </c:catAx>
      <c:valAx>
        <c:axId val="95676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907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248-BE5A-4124-AE64-F8A70FFB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A9F-5FE7-4F01-B177-744918D0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8DB-AD50-4FD1-9166-AC97BD4E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FB1-08CE-47CD-ACB1-751206E5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82C-7138-4C9C-A120-9F053242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DB1-CB2E-498D-AA90-6EF59BF2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B1E-CB72-4003-8C80-4E8DD4CD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7AD-656E-4611-9D41-AB4AA9E8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51C-E2C3-4A55-8F0F-9EB02C5D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4F6C-2848-43B0-89F0-D2ED9F9A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61E-70B3-44AF-86B1-C762B0B1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F10-6123-4279-A56B-9928C5FC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0AACB-2696-4965-8EB1-83A649ABB7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