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7B3C87-F7C9-40C2-B7F5-B00E8A8BC1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st important for us: GPIB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09168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83360" y="8380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09168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83360" y="3982680"/>
            <a:ext cx="294408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0" y="-360"/>
            <a:ext cx="9144000" cy="3210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85760" y="39826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85760" y="838080"/>
            <a:ext cx="44622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0" y="3982680"/>
            <a:ext cx="9144000" cy="2871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ec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7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1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make_sweep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ready at the level of GPplu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Too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s additional tools to write better measurement scrip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or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metadat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ongside 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 and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ttings of additional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atio of voltage divid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or of the shirt you are wear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verything that might be important for a later interpretation of the 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n‘t repeat yoursel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above collected information automatical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plot data with correct axes, scaling, labels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tadata philosophy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8" name=""/>
          <p:cNvGrpSpPr/>
          <p:nvPr/>
        </p:nvGrpSpPr>
        <p:grpSpPr>
          <a:xfrm>
            <a:off x="1620720" y="1846440"/>
            <a:ext cx="216000" cy="431640"/>
            <a:chOff x="1620720" y="1846440"/>
            <a:chExt cx="216000" cy="431640"/>
          </a:xfrm>
        </p:grpSpPr>
        <p:sp>
          <p:nvSpPr>
            <p:cNvPr id="69" name=""/>
            <p:cNvSpPr/>
            <p:nvPr/>
          </p:nvSpPr>
          <p:spPr>
            <a:xfrm>
              <a:off x="1620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620720" y="1846440"/>
              <a:ext cx="216000" cy="215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 flipV="1">
              <a:off x="1620720" y="2062080"/>
              <a:ext cx="216000" cy="21600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836720" y="1846440"/>
              <a:ext cx="0" cy="431640"/>
            </a:xfrm>
            <a:prstGeom prst="line">
              <a:avLst/>
            </a:prstGeom>
            <a:ln w="9360">
              <a:solidFill>
                <a:srgbClr val="99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3" name=""/>
          <p:cNvSpPr/>
          <p:nvPr/>
        </p:nvSpPr>
        <p:spPr>
          <a:xfrm>
            <a:off x="183672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226836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 flipH="1">
            <a:off x="1692360" y="1198440"/>
            <a:ext cx="5760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 flipH="1" flipV="1">
            <a:off x="1258560" y="2060280"/>
            <a:ext cx="361800" cy="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539640" y="1917720"/>
            <a:ext cx="720720" cy="289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107640" y="2062080"/>
            <a:ext cx="431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V="1">
            <a:off x="108000" y="1198080"/>
            <a:ext cx="0" cy="863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08000" y="11984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549440" y="1125360"/>
            <a:ext cx="1443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84360" y="1125360"/>
            <a:ext cx="142560" cy="1447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96720" y="206208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84360" y="2494080"/>
            <a:ext cx="431640" cy="431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96720" y="2709720"/>
            <a:ext cx="287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116000" y="2709720"/>
            <a:ext cx="2890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405080" y="206172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2781360"/>
            <a:ext cx="86364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resis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565360"/>
            <a:ext cx="43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612720" y="1917720"/>
            <a:ext cx="5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324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332000" y="1989000"/>
            <a:ext cx="144360" cy="14472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28720" y="1054080"/>
            <a:ext cx="720720" cy="37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6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68360" y="83808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905480" y="812880"/>
            <a:ext cx="274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Voltage source (Knick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81080" y="2422440"/>
            <a:ext cx="1439640" cy="719280"/>
          </a:xfrm>
          <a:prstGeom prst="rect">
            <a:avLst/>
          </a:prstGeom>
          <a:noFill/>
          <a:ln w="9360">
            <a:solidFill>
              <a:srgbClr val="80808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1618560" y="2565360"/>
            <a:ext cx="196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Arial"/>
              </a:rPr>
              <a:t>Multimeter (H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6659640" y="1700280"/>
          <a:ext cx="2305080" cy="1339920"/>
        </p:xfrm>
        <a:graphic>
          <a:graphicData uri="http://schemas.openxmlformats.org/drawingml/2006/table">
            <a:tbl>
              <a:tblPr/>
              <a:tblGrid>
                <a:gridCol w="474480"/>
                <a:gridCol w="183060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8.193005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7.234130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.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+6.28083900E-0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9" name=""/>
          <p:cNvSpPr/>
          <p:nvPr/>
        </p:nvSpPr>
        <p:spPr>
          <a:xfrm>
            <a:off x="4788000" y="1484280"/>
            <a:ext cx="237492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lum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bi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 V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resistor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87280" y="3429000"/>
            <a:ext cx="4284720" cy="34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Ax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 baseline="-25000">
                <a:solidFill>
                  <a:srgbClr val="000099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(</a:t>
            </a: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* (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1</a:t>
            </a:r>
            <a:r>
              <a:rPr b="0" lang="en-US" sz="20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/ </a:t>
            </a:r>
            <a:r>
              <a:rPr b="0" lang="en-US" sz="2000" spc="-1" strike="noStrike">
                <a:solidFill>
                  <a:srgbClr val="0000ff"/>
                </a:solidFill>
                <a:latin typeface="Arial"/>
              </a:rPr>
              <a:t>C</a:t>
            </a:r>
            <a:r>
              <a:rPr b="0" lang="en-US" sz="2000" spc="-1" strike="noStrike" baseline="-25000">
                <a:solidFill>
                  <a:srgbClr val="0000ff"/>
                </a:solidFill>
                <a:latin typeface="Arial"/>
              </a:rPr>
              <a:t>2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– 1)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xpress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cription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8000" y="3429000"/>
            <a:ext cx="4356000" cy="330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Plo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current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current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lot “diode resistance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diode resistanc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 over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xis “</a:t>
            </a:r>
            <a:r>
              <a:rPr b="0" lang="en-US" sz="2000" spc="-1" strike="noStrike">
                <a:solidFill>
                  <a:srgbClr val="9900ff"/>
                </a:solidFill>
                <a:latin typeface="Arial"/>
              </a:rPr>
              <a:t>bias voltag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gsc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ri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spcBef>
                <a:spcPts val="2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nges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788000" y="692280"/>
            <a:ext cx="2539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7840" indent="-177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90000"/>
                </a:solidFill>
                <a:latin typeface="Arial"/>
              </a:rPr>
              <a:t>Constant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7840" indent="-177840">
              <a:buClr>
                <a:srgbClr val="00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00"/>
                </a:solidFill>
                <a:latin typeface="Arial"/>
              </a:rPr>
              <a:t>R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= 1000 Oh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measurement/lab-measurement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tad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ter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ve plo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st avaible plo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reate postscrip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al-world/ladediagramm_qpc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re is room for further improve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tandard measurements should be factored out to dedicated classes like Lab::Measurement::Ladediagram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llection of metadata could be automated furth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ther Lab::VISA featu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ate protec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” safety mechanis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s sure that no voltage is changed to fa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ig voltage steps are automatically split into small, slow ste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Date/time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ndl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e/time column can contain timestamp for every data poi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lot data as function of ti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s with </a:t>
            </a: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igher dimensional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trace/sweep/line is a “block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 plots, selections of trace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nline resour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‘s far from being complete.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ource Co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Tutor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nano.physik.uni-muenchen.de/svn/lab/trunk/documentation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odbye/goodbye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VISA, GPIB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Instruments can be connected in various ways:</a:t>
            </a:r>
            <a:br>
              <a:rPr sz="2400"/>
            </a:br>
            <a:r>
              <a:rPr b="0" lang="de-DE" sz="2400" spc="-1" strike="noStrike">
                <a:solidFill>
                  <a:srgbClr val="000000"/>
                </a:solidFill>
                <a:latin typeface="Arial"/>
              </a:rPr>
              <a:t>Serial port, GPIB, VXI, TCP/IP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GPIB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hardware and 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PIB (IEEE488): Standard by Hewlett-Pack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hysical layer IEEE488.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and layer IEEE488.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PI (Standard Commands for Programmable Instrument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(softwar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Instrument Software Architec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XI, GPIB, serial, or computer-based instr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I-VISA library is one implementation of the VISA standar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software to control instruments in the lab via VISA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e.g. voltage sources, multimeters, etc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ternative to LabView, Gpplus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t very different: no GUI, just AP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0" y="2781360"/>
            <a:ext cx="9144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63600" indent="-363600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design goa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Flexib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 any kind of measurement proced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anything that has GPIB or serial conn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Sa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ake sure you never drive voltage sources to fast and destroy your g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Helpfu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utomatically collect additional information about the data (“metadata”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r should have to type in additional information only once and then never agai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is in Per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::VISA is written in Perl and 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 used from programs written in Per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l: interpreted scripting langua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uns on almost every 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xtremely good in reading data files, manipula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ows to write quick and dirty scripts that get the job d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so allows to write clean fullsize program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990000"/>
                </a:solidFill>
                <a:latin typeface="Arial"/>
              </a:rPr>
              <a:t>=&gt; ideal for experimental physic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vided into three par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uild on top of each oth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vide increasing comf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easurement scripts can be based on any of these st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VIS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lowest layer. It makes the NI-VISA library accessible from perl and therefor allows to make any standard VISA cal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Instrumen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package makes communication with instruments easier by silently handling the protocol involve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90000"/>
                </a:solidFill>
                <a:latin typeface="Arial"/>
              </a:rPr>
              <a:t>Lab::Tool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the highest abstraction layer. Provides support for writing good measurement scripts. Offers means of saving data and related meta information to disk, plotting data, etc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b::VISA architectur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1"/>
          <a:stretch/>
        </p:blipFill>
        <p:spPr>
          <a:xfrm>
            <a:off x="1179360" y="743040"/>
            <a:ext cx="6783480" cy="61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visa/raw_visa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oks like example programs from manu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rotocol overhead is pain in the nec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692280"/>
          </a:xfrm>
          <a:prstGeom prst="rect">
            <a:avLst/>
          </a:prstGeom>
          <a:solidFill>
            <a:srgbClr val="f9feca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 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9144000" cy="6019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b-instrument/query_id.p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uch nicer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6T13:00:06Z</dcterms:created>
  <dc:creator>Daniel Schröer</dc:creator>
  <dc:description/>
  <dc:language>en-US</dc:language>
  <cp:lastModifiedBy>Daniel Schröer</cp:lastModifiedBy>
  <dcterms:modified xsi:type="dcterms:W3CDTF">2006-10-07T19:03:45Z</dcterms:modified>
  <cp:revision>85</cp:revision>
  <dc:subject/>
  <dc:title>Folie 1</dc:title>
</cp:coreProperties>
</file>