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6720" y="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Le Macintosh virtuel pour systèmes ouv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160" y="1351080"/>
            <a:ext cx="4676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us permet d'exécuter des applications Macintosh® sur votre station de travail SPARC sous Solaris 2.3 ou 2.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vous offre l'environnement System 7.1 complet, Finder incl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accepte AppleTalk, les améliorations de performance, le protocole Mac TCP, les cartes son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010120" y="2452680"/>
            <a:ext cx="37530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ur plus d'information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 MAE 2.0, vous pouvez accéder au site MAE Web au 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au site MAE ftp au 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support.apple.c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/pub/mae directory)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exemplaire d'essai de MAE 1.0 est disponible sur le SunSoft Catalyst CDWare™ pour SPARC®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48280" y="5952960"/>
            <a:ext cx="3695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ur acheter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, contactez votre revendeur Apple lo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15040" y="1541520"/>
            <a:ext cx="3753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10120" y="1100160"/>
            <a:ext cx="3695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ARQUE </a:t>
            </a:r>
            <a:r>
              <a:rPr b="0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: disponible en anglais uniquement, MAE accepte toutefois les versions localisées des applications Macinto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